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0760" y="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62000" y="703440"/>
            <a:ext cx="463536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883116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0760" y="883116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77834D-68E4-48CD-9EFB-BF9D484C81B7}" type="slidenum"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,8 TFL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 számítógép ? példa a menedzser kalkulátorom, számológép, programozható számológép, mobiltelefon, CD lejátsz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lyen számítógépet tudnánk mi most itt készíten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m világos mi működött és mi nem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ákumcső kép, magyaráz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ranzisztorról kép, működési magyaráz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erritgyűrűs memória képe és működése [Computer Architecture and Organisation, Chapter Five, Memory organisation, pp33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C mutatás, magyaráz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entiumban hány tranzisztor van ? (kb. 5e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... a jövő nemzedék, Önö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951 : 12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975 : 150.000 jóslat 1985-re : 5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985 : 9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989 : 54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CFF-690C-4BAB-9BA0-BC321619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904-1EEF-4CE2-895C-88812AFA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676-DC47-47C8-B52E-9FE338BA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5ED-87D2-45D2-8FDB-C312782A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2CD-05C0-4FA2-B0A5-32E7FF7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529-57BF-4D50-A7C8-CCFD337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7B9-19DE-4F9A-8EB0-894D6FC7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C45-27AD-4101-8368-23AEB6F6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497-A313-4257-A0EA-4EB36324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F13-08DA-4266-9C48-9DA5A6B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6C7-992E-47E7-A8A3-3E1A09E2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85B-0FC3-412C-877B-36743F1D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6B84D2-1ABA-43D7-9700-2C4FB0C01FA8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rdver - szoftver réteg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133720"/>
            <a:ext cx="6095880" cy="41907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3048120"/>
            <a:ext cx="4419720" cy="2971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3962520"/>
            <a:ext cx="3048120" cy="1752480"/>
          </a:xfrm>
          <a:prstGeom prst="ellipse">
            <a:avLst/>
          </a:prstGeom>
          <a:solidFill>
            <a:srgbClr val="99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hard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0960" y="335268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rendszer szoft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840" y="2438280"/>
            <a:ext cx="29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alkalmazói szoft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E97-5C40-4ECC-832B-E9D231A36F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nyi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1011 = 11 ??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77E-67C2-4278-A09A-64F5BC9B9D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ítógépek sebessé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yen gyors a leggyorsabb számítógép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ny szorzást végez másodpercenkén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nyivel gyorsabb egy otthoni gépnél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ért gyorsabb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ért nem gyorsabb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gyan lehetne gyorsabb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1AF-A683-492D-85C5-7CB69F139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SIMULATO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P 1  - 2002 júni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ased on the NEC SX architecture, 640 nodes, each node with 8 vector processors (8 Gflop/s peak per processor), 2 ns cycle time, 16GB shared memory. Total of 5120 total processors, 40 TFlop/s peak, and 10 TB memo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t has a single stage crossbar (1800 miles of cable)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83,000 copper cables, 16 GB/s cross section bandwid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700 TB disk sp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1.6 PB mass sto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rea of computer = 4 tennis courts, 3 floo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0320" y="5715000"/>
            <a:ext cx="6066360" cy="947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1TFlop/s 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= 10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 CE"/>
              </a:rPr>
              <a:t>12 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lebegőpontos művelet 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1PByte 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= 10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imes New Roman CE"/>
              </a:rPr>
              <a:t>15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By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73600" y="2666880"/>
            <a:ext cx="142596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femto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-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pico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-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nano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-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mikro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-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mili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kilo 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mega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giga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tera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peta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F59-60CF-49DE-BD77-BE9478ED86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 gép összehasonlítása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13640" y="17524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EDVAC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4000" y="175248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CRAY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5320" y="2438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9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6400" y="2438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4160" y="24382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24é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960" y="304812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2000 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760" y="3581280"/>
            <a:ext cx="35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1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= 1/1.000.000.000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6400" y="304812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2.5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800" y="30481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60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8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órajel cik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960" y="24382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évsz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3000" y="42670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mátrixszorz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960" y="426708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00 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256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440" y="42670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.300.000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7160" y="5638680"/>
            <a:ext cx="1323720" cy="642600"/>
          </a:xfrm>
          <a:prstGeom prst="rect">
            <a:avLst/>
          </a:prstGeom>
          <a:solidFill>
            <a:srgbClr val="99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8000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2960" y="3657600"/>
            <a:ext cx="2003400" cy="520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ó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8560" y="4876920"/>
            <a:ext cx="1841760" cy="520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építés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976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20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432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696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92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1160" y="426708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 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484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712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92E-6346-4195-A567-FDA2AB9C4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500"/>
                            </p:stCondLst>
                            <p:childTnLst>
                              <p:par>
                                <p:cTn id="20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ért kell (fontos) a számítógépek ismerete 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eszköz ismerete, az „alap”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- számítógép kapcsola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bakeresés, sebesség, optimalizálás,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rrekt” programozá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bb” használa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F94-D14B-4F4E-81FD-E370581EF2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örténelmi áttekint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ámítógép generáció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BC2-030B-4361-B4F5-D7E431D4F0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Ember vs. számítógé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16160" y="1233360"/>
            <a:ext cx="1622160" cy="51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lékez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1760" y="2300400"/>
            <a:ext cx="1832400" cy="51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zérlő a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25000" y="3367080"/>
            <a:ext cx="2006280" cy="51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ndolkod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3000" y="4662360"/>
            <a:ext cx="2038320" cy="51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rzékszerv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440" y="4510080"/>
            <a:ext cx="1803600" cy="945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avatkoz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erv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34520" y="6033960"/>
            <a:ext cx="1587240" cy="519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rnyez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44360" y="1219320"/>
            <a:ext cx="2148120" cy="51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ár (memór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65880" y="2376360"/>
            <a:ext cx="2306520" cy="51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zérlő 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56400" y="3443400"/>
            <a:ext cx="1724400" cy="137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itmetik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94280" y="6262560"/>
            <a:ext cx="1448280" cy="519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ya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85120" y="5043600"/>
            <a:ext cx="1486440" cy="945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mene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72200" y="5043600"/>
            <a:ext cx="1428480" cy="945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mene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1752480"/>
            <a:ext cx="0" cy="6098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2895480"/>
            <a:ext cx="0" cy="6098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2819520"/>
            <a:ext cx="0" cy="6094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1752480"/>
            <a:ext cx="0" cy="6098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560" y="4114440"/>
            <a:ext cx="106668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2363760" y="4649400"/>
            <a:ext cx="12193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240" y="2516040"/>
            <a:ext cx="106668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2440080" y="2514600"/>
            <a:ext cx="1218600" cy="39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3280" y="5486760"/>
            <a:ext cx="13712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2040" y="5486760"/>
            <a:ext cx="121860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4680" y="2668680"/>
            <a:ext cx="10659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2960" y="2668680"/>
            <a:ext cx="7617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187-63E2-4412-AC9C-E252D6FC55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Számológép vs. számítógé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zámológé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őleg számtani műveletek végzésére alkalma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yakori, közvetlen emberi beavatkozást igényl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szkö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zámítógé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ső programvezérlésű digitá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ktronikus gé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űveletek sorozatát képes adatokkal végez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mberi beavatkozás nélk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A97-665C-4EE8-BB38-616325EB0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rai számoló gépek és felfedezők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szközhasználat (~-300.000é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fogalom (~-30.000év), számrendszerek, ké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bakusz, ~5000 éves, összeadás-kivonás, golyók tologatása rudak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apír és toll (csillagászat, navigáció, táblázatok, trigonometrikus f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izikai munka -&gt;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szellemi munka „gépesíté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agyon erős technológiai korlátok (mechani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79E-A4F5-46D4-AD03-184B9DC32B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ló gépek készítés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1600- Ipari Forradalom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623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Wilheim Schickard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4 alapművelet (ter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642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Blaise Pascal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ízes számrendszer, 8 jegyű, összeadó-kivonó, fogaskeré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694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Gottfried Wilhem von Leibniz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ascal gépe + szorzás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áltó tárcs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2FA-3776-401E-9D64-29631CDC51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4419360" y="4952880"/>
            <a:ext cx="2361960" cy="990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852640"/>
            <a:ext cx="2087640" cy="1368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 nyelvű programból, gépi kó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5238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</a:rPr>
              <a:t>magas szintű programozási nyelv 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2760" y="1371600"/>
            <a:ext cx="249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 CE"/>
              </a:rPr>
              <a:t>swap (int v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[], int 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{ int te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temp = v[k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v[k] = v[k+1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v[k+1] = te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2924280"/>
            <a:ext cx="2133360" cy="9144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C fordí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523880"/>
            <a:ext cx="26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</a:rPr>
              <a:t>assembler nyelvű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69320" y="2438280"/>
            <a:ext cx="277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 CE"/>
              </a:rPr>
              <a:t>swap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muli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$2, $5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add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$2, $4,$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lw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$15, 0($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lw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$16, 4($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sw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$16, 0($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sw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$15, 0($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jr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$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 CE"/>
              </a:rPr>
              <a:t>bináris, gépi kódú progra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4952880"/>
            <a:ext cx="2133360" cy="9144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assemb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" y="4419720"/>
            <a:ext cx="4277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00000010110110010001110100011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11101110010100101000101110000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1111100100000001010000101000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1111100100000001100000110000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0001100100000001100000101000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0001100100000001010000110000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E"/>
              </a:rPr>
              <a:t>001010111000000000000000011111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F6D-27B2-462C-846D-6A263B810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a, programvezérelt számítógép (gondolat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Charles Xavier Thomas de Colmar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4 alapműve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769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Kempelen Farka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billentyűvezérlésű hangszintetizá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820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Joseph-Marie Jacquard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lyukkárty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vezérlésű szövőgép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rogram - minta tárolás - vezér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0AD-746B-4519-98C0-9228E8AA8A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Babbage gépei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harles Babbage :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"I wish to God these calculations had been performed by steam!"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1812 gépek és matematika közötti összh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822 „Difference Engine”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őz,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tárolt program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univerzális, külső programvezérlésű elektromechanikus számítógép terve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olinom helyettesítési értéket számol sorozatban (              ) 20 jegy, 6-od rendű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989440" y="5397480"/>
                <a:ext cx="1555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71B-D39C-4F44-A0C0-3D9C9E25A2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Babbage gépei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nalytical Engine” általános célú számítógé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lom” (processz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” (memór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utasítások lyukkártyán, algoritmus (vége, goto...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Augusta Ada, Countesse of Lovelance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ADA nyelv) programoz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6FE-8823-4270-990F-8791213148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ló gépek alkalmazásának a kezde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847-1854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George Boole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Boole algebr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matematikai egyenletek : igaz/ham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889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Herman Hollerith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lyukkártya (1lyuk - 1szám, 2lyuk -1betű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USA népszámlálás összesítés (10év -&gt; 6hét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24 International Buisness Machines (IBM) alapító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ereskedelmi számológép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0A2-2BFA-46F6-A205-56CCB1A242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45-1956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41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Konrad Zuse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Z3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elekromágneses relék, repülő és rakéta terve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43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Alain Turing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olossu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émet rejtjel visszafejtés (célgé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44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Howard H. Aike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ark I.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lövedékpálya táblázatok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él focipálya méret, 800km vezeték, relé,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3-5 sec/számolás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lapműveletek, komplex egyenle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EDD-AE40-4790-B458-233A46FDF1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45-1956 (2) (ENIAC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946,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ENIAC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imes New Roman"/>
              </a:rPr>
              <a:t>John Presper Eckert, John W. Mauchly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lső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elektroniku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digitáli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számítógép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8.000 vákuumcső, 70.000 ellenállás, 5 millió forrasztás, 160 kW fogyasztás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5000 + /sec , 400 * /sec, 10 jegyű számok,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0 regiszter, 1000* gyorsabb mint Mark I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ülső programvezérlés (huzalozás)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30 Tonna , MTBF 40s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8200" y="5715000"/>
            <a:ext cx="5929200" cy="947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 CE"/>
              </a:rPr>
              <a:t>MTBF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= </a:t>
            </a:r>
            <a:r>
              <a:rPr b="0" lang="hu-HU" sz="2800" spc="-1" strike="noStrike">
                <a:solidFill>
                  <a:srgbClr val="ffff00"/>
                </a:solidFill>
                <a:latin typeface="Times New Roman CE"/>
              </a:rPr>
              <a:t>M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ean </a:t>
            </a:r>
            <a:r>
              <a:rPr b="0" lang="hu-HU" sz="2800" spc="-1" strike="noStrike">
                <a:solidFill>
                  <a:srgbClr val="ffff00"/>
                </a:solidFill>
                <a:latin typeface="Times New Roman CE"/>
              </a:rPr>
              <a:t>T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ime </a:t>
            </a:r>
            <a:r>
              <a:rPr b="0" lang="hu-HU" sz="2800" spc="-1" strike="noStrike">
                <a:solidFill>
                  <a:srgbClr val="ffff00"/>
                </a:solidFill>
                <a:latin typeface="Times New Roman CE"/>
              </a:rPr>
              <a:t>B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etween </a:t>
            </a:r>
            <a:r>
              <a:rPr b="0" lang="hu-HU" sz="2800" spc="-1" strike="noStrike">
                <a:solidFill>
                  <a:srgbClr val="ffff00"/>
                </a:solidFill>
                <a:latin typeface="Times New Roman CE"/>
              </a:rPr>
              <a:t>F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ailures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(meghibásodások közt eltelt átlagos id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5AE-AE93-4EF8-9C83-15BC96DF32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45-1956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5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VA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umann Ján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John von Neumann 1903-1957) </a:t>
            </a:r>
            <a:br>
              <a:rPr sz="3200"/>
            </a:b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memór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árolja az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ad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at és a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progra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tételes vezérlés át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özponti vezérlő egy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1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VAC I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ő kereskedelemben kapható számítógé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M 360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ő „igazi” általános célú számítógé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A09-38FE-4F3B-8E4D-E780E6EBB4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Generáció blokkvázl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69520" y="3389760"/>
            <a:ext cx="1846080" cy="13723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6680" y="5775480"/>
            <a:ext cx="2065680" cy="9457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ív tá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emór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29640" y="2139840"/>
            <a:ext cx="264024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zérlő 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20" y="3756240"/>
            <a:ext cx="2580840" cy="9457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viteli 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p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74680" y="3716640"/>
            <a:ext cx="2462040" cy="9457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viteli 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utp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02960" y="1538280"/>
            <a:ext cx="19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68360" y="2300400"/>
            <a:ext cx="134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zér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2360" y="3962520"/>
            <a:ext cx="685800" cy="304560"/>
          </a:xfrm>
          <a:prstGeom prst="rightArrow">
            <a:avLst>
              <a:gd name="adj1" fmla="val 50000"/>
              <a:gd name="adj2" fmla="val 112599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9080" y="3962520"/>
            <a:ext cx="685800" cy="304560"/>
          </a:xfrm>
          <a:prstGeom prst="rightArrow">
            <a:avLst>
              <a:gd name="adj1" fmla="val 50000"/>
              <a:gd name="adj2" fmla="val 112599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666880"/>
            <a:ext cx="304920" cy="685800"/>
          </a:xfrm>
          <a:prstGeom prst="upArrow">
            <a:avLst>
              <a:gd name="adj1" fmla="val 50000"/>
              <a:gd name="adj2" fmla="val 112445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268880" y="4800600"/>
            <a:ext cx="304560" cy="990720"/>
            <a:chOff x="4268880" y="4800600"/>
            <a:chExt cx="304560" cy="990720"/>
          </a:xfrm>
        </p:grpSpPr>
        <p:sp>
          <p:nvSpPr>
            <p:cNvPr id="258" name=""/>
            <p:cNvSpPr/>
            <p:nvPr/>
          </p:nvSpPr>
          <p:spPr>
            <a:xfrm>
              <a:off x="4268880" y="5105520"/>
              <a:ext cx="304560" cy="685800"/>
            </a:xfrm>
            <a:prstGeom prst="downArrow">
              <a:avLst>
                <a:gd name="adj1" fmla="val 50000"/>
                <a:gd name="adj2" fmla="val 112599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8880" y="4800600"/>
              <a:ext cx="304560" cy="685800"/>
            </a:xfrm>
            <a:prstGeom prst="upArrow">
              <a:avLst>
                <a:gd name="adj1" fmla="val 50000"/>
                <a:gd name="adj2" fmla="val 112578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335560" y="2666880"/>
            <a:ext cx="304920" cy="685800"/>
          </a:xfrm>
          <a:prstGeom prst="upArrow">
            <a:avLst>
              <a:gd name="adj1" fmla="val 50000"/>
              <a:gd name="adj2" fmla="val 112445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880" y="3352680"/>
            <a:ext cx="152280" cy="24386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6960" y="4038480"/>
            <a:ext cx="762120" cy="1526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33560" y="1536840"/>
            <a:ext cx="3251160" cy="370836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96720" y="2362320"/>
            <a:ext cx="2057400" cy="1371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11680" y="266688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2438280"/>
            <a:ext cx="1447920" cy="1295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2760" y="2666880"/>
            <a:ext cx="0" cy="3124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38440" y="5653080"/>
            <a:ext cx="175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átvi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505320" y="5334120"/>
            <a:ext cx="838080" cy="304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552720" y="2590920"/>
            <a:ext cx="22860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8200" y="5761080"/>
            <a:ext cx="1650960" cy="519120"/>
          </a:xfrm>
          <a:prstGeom prst="rect">
            <a:avLst/>
          </a:prstGeom>
          <a:solidFill>
            <a:srgbClr val="0099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féri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20720" y="5684760"/>
            <a:ext cx="1650960" cy="519120"/>
          </a:xfrm>
          <a:prstGeom prst="rect">
            <a:avLst/>
          </a:prstGeom>
          <a:solidFill>
            <a:srgbClr val="0099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féri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82680" y="4724280"/>
            <a:ext cx="304560" cy="990720"/>
            <a:chOff x="382680" y="4724280"/>
            <a:chExt cx="304560" cy="990720"/>
          </a:xfrm>
        </p:grpSpPr>
        <p:sp>
          <p:nvSpPr>
            <p:cNvPr id="274" name=""/>
            <p:cNvSpPr/>
            <p:nvPr/>
          </p:nvSpPr>
          <p:spPr>
            <a:xfrm>
              <a:off x="382680" y="5029200"/>
              <a:ext cx="304560" cy="685800"/>
            </a:xfrm>
            <a:prstGeom prst="downArrow">
              <a:avLst>
                <a:gd name="adj1" fmla="val 50000"/>
                <a:gd name="adj2" fmla="val 112599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2680" y="4724280"/>
              <a:ext cx="304560" cy="685800"/>
            </a:xfrm>
            <a:prstGeom prst="upArrow">
              <a:avLst>
                <a:gd name="adj1" fmla="val 50000"/>
                <a:gd name="adj2" fmla="val 112578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164360" y="4648320"/>
            <a:ext cx="304920" cy="990360"/>
            <a:chOff x="7164360" y="4648320"/>
            <a:chExt cx="304920" cy="990360"/>
          </a:xfrm>
        </p:grpSpPr>
        <p:sp>
          <p:nvSpPr>
            <p:cNvPr id="277" name=""/>
            <p:cNvSpPr/>
            <p:nvPr/>
          </p:nvSpPr>
          <p:spPr>
            <a:xfrm>
              <a:off x="7164360" y="4952880"/>
              <a:ext cx="304920" cy="685800"/>
            </a:xfrm>
            <a:prstGeom prst="downArrow">
              <a:avLst>
                <a:gd name="adj1" fmla="val 50000"/>
                <a:gd name="adj2" fmla="val 112466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4360" y="4648320"/>
              <a:ext cx="304920" cy="685800"/>
            </a:xfrm>
            <a:prstGeom prst="upArrow">
              <a:avLst>
                <a:gd name="adj1" fmla="val 50000"/>
                <a:gd name="adj2" fmla="val 112445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97080" y="4724280"/>
            <a:ext cx="304560" cy="990720"/>
            <a:chOff x="1297080" y="4724280"/>
            <a:chExt cx="304560" cy="990720"/>
          </a:xfrm>
        </p:grpSpPr>
        <p:sp>
          <p:nvSpPr>
            <p:cNvPr id="280" name=""/>
            <p:cNvSpPr/>
            <p:nvPr/>
          </p:nvSpPr>
          <p:spPr>
            <a:xfrm>
              <a:off x="1297080" y="5029200"/>
              <a:ext cx="304560" cy="685800"/>
            </a:xfrm>
            <a:prstGeom prst="downArrow">
              <a:avLst>
                <a:gd name="adj1" fmla="val 50000"/>
                <a:gd name="adj2" fmla="val 112599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7080" y="4724280"/>
              <a:ext cx="304560" cy="685800"/>
            </a:xfrm>
            <a:prstGeom prst="upArrow">
              <a:avLst>
                <a:gd name="adj1" fmla="val 50000"/>
                <a:gd name="adj2" fmla="val 112578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8231040" y="4648320"/>
            <a:ext cx="304920" cy="990360"/>
            <a:chOff x="8231040" y="4648320"/>
            <a:chExt cx="304920" cy="990360"/>
          </a:xfrm>
        </p:grpSpPr>
        <p:sp>
          <p:nvSpPr>
            <p:cNvPr id="283" name=""/>
            <p:cNvSpPr/>
            <p:nvPr/>
          </p:nvSpPr>
          <p:spPr>
            <a:xfrm>
              <a:off x="8231040" y="4952880"/>
              <a:ext cx="304920" cy="685800"/>
            </a:xfrm>
            <a:prstGeom prst="downArrow">
              <a:avLst>
                <a:gd name="adj1" fmla="val 50000"/>
                <a:gd name="adj2" fmla="val 112466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31040" y="4648320"/>
              <a:ext cx="304920" cy="685800"/>
            </a:xfrm>
            <a:prstGeom prst="upArrow">
              <a:avLst>
                <a:gd name="adj1" fmla="val 50000"/>
                <a:gd name="adj2" fmla="val 112445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932-4843-40CE-A46E-9988726EFE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Generáció összefogla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ndelésre készült műveletek, az elvégzendő feladathoz 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udományos műszaki számítás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nárisan kódolt gépi nyelvű program (minden gépnek különböző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rogramozás gépi kód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Processzorcentr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oros feldolg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7AF-E7F7-48DC-BFA6-B297D0AF06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Generáció összefogla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Vákuumcsövek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nagy méret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dat tárolók : mágnesdob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lektroncsö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0e3..10e4 művelet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0..100kW teljesítményfelvé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is megbízható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gas á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éhány dar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B8D-71A4-483C-94FA-EE4B99F7CB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gikai fizikai szint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0640" y="579132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elektronok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félvezető réteg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6708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tranzisztoro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félvezető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828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logikai kap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6840" y="60199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0 - 1 logikai szin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5105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0 - 5 Vol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14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memória, CPU, IO egységek, st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400800" y="1371600"/>
            <a:ext cx="2438280" cy="1143000"/>
            <a:chOff x="6400800" y="1371600"/>
            <a:chExt cx="2438280" cy="1143000"/>
          </a:xfrm>
        </p:grpSpPr>
        <p:sp>
          <p:nvSpPr>
            <p:cNvPr id="73" name=""/>
            <p:cNvSpPr/>
            <p:nvPr/>
          </p:nvSpPr>
          <p:spPr>
            <a:xfrm>
              <a:off x="8001000" y="1371600"/>
              <a:ext cx="0" cy="1143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0" y="1371600"/>
              <a:ext cx="0" cy="1143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1371600"/>
              <a:ext cx="2438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7120" y="2514600"/>
              <a:ext cx="2361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9480" y="1717560"/>
              <a:ext cx="772200" cy="45972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 CE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1641240"/>
              <a:ext cx="909360" cy="45972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 CE"/>
                </a:rPr>
                <a:t>M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324480" y="4724280"/>
            <a:ext cx="2666880" cy="1524240"/>
            <a:chOff x="6324480" y="4724280"/>
            <a:chExt cx="2666880" cy="1524240"/>
          </a:xfrm>
        </p:grpSpPr>
        <p:grpSp>
          <p:nvGrpSpPr>
            <p:cNvPr id="80" name=""/>
            <p:cNvGrpSpPr/>
            <p:nvPr/>
          </p:nvGrpSpPr>
          <p:grpSpPr>
            <a:xfrm>
              <a:off x="7478280" y="5545080"/>
              <a:ext cx="478440" cy="430200"/>
              <a:chOff x="7478280" y="5545080"/>
              <a:chExt cx="478440" cy="430200"/>
            </a:xfrm>
          </p:grpSpPr>
          <p:sp>
            <p:nvSpPr>
              <p:cNvPr id="81" name=""/>
              <p:cNvSpPr/>
              <p:nvPr/>
            </p:nvSpPr>
            <p:spPr>
              <a:xfrm>
                <a:off x="7479360" y="5545800"/>
                <a:ext cx="477360" cy="42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2" y="0"/>
                    </a:moveTo>
                    <a:arcTo wR="10800" hR="10800" stAng="-5411937" swAng="54119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2" y="0"/>
                    </a:moveTo>
                    <a:arcTo wR="10800" hR="10800" stAng="-5411937" swAng="5411937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7479720" y="5546520"/>
                <a:ext cx="477000" cy="42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063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7478280" y="5545080"/>
                <a:ext cx="238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478640" y="5545080"/>
                <a:ext cx="0" cy="429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78640" y="5974920"/>
                <a:ext cx="238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478280" y="4724280"/>
              <a:ext cx="478440" cy="430200"/>
              <a:chOff x="7478280" y="4724280"/>
              <a:chExt cx="478440" cy="430200"/>
            </a:xfrm>
          </p:grpSpPr>
          <p:sp>
            <p:nvSpPr>
              <p:cNvPr id="87" name=""/>
              <p:cNvSpPr/>
              <p:nvPr/>
            </p:nvSpPr>
            <p:spPr>
              <a:xfrm>
                <a:off x="7479360" y="4725000"/>
                <a:ext cx="477360" cy="42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2" y="0"/>
                    </a:moveTo>
                    <a:arcTo wR="10800" hR="10800" stAng="-5411937" swAng="54119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2" y="0"/>
                    </a:moveTo>
                    <a:arcTo wR="10800" hR="10800" stAng="-5411937" swAng="5411937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0800000">
                <a:off x="7479720" y="4725720"/>
                <a:ext cx="477000" cy="42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063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7478280" y="4724280"/>
                <a:ext cx="238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8640" y="4724280"/>
                <a:ext cx="0" cy="429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78640" y="5154120"/>
                <a:ext cx="238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718760" y="5076720"/>
              <a:ext cx="1113480" cy="507960"/>
              <a:chOff x="7718760" y="5076720"/>
              <a:chExt cx="1113480" cy="507960"/>
            </a:xfrm>
          </p:grpSpPr>
          <p:sp>
            <p:nvSpPr>
              <p:cNvPr id="93" name=""/>
              <p:cNvSpPr/>
              <p:nvPr/>
            </p:nvSpPr>
            <p:spPr>
              <a:xfrm>
                <a:off x="8163360" y="5076720"/>
                <a:ext cx="22320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559" swAng="54255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559" swAng="5425559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0800000">
                <a:off x="8165160" y="5077080"/>
                <a:ext cx="22140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43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4346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19120" y="5076720"/>
                <a:ext cx="111312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2" swAng="54051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2" swAng="5405112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0800000">
                <a:off x="7718760" y="5077080"/>
                <a:ext cx="111348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8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884"/>
                  </a:path>
                </a:pathLst>
              </a:custGeom>
              <a:noFill/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750720" y="4856040"/>
              <a:ext cx="528120" cy="437760"/>
              <a:chOff x="6750720" y="4856040"/>
              <a:chExt cx="528120" cy="437760"/>
            </a:xfrm>
          </p:grpSpPr>
          <p:sp>
            <p:nvSpPr>
              <p:cNvPr id="98" name=""/>
              <p:cNvSpPr/>
              <p:nvPr/>
            </p:nvSpPr>
            <p:spPr>
              <a:xfrm>
                <a:off x="6750720" y="4856040"/>
                <a:ext cx="0" cy="437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50720" y="4856040"/>
                <a:ext cx="446040" cy="218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750720" y="5075640"/>
                <a:ext cx="446040" cy="2181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210080" y="5025960"/>
                <a:ext cx="68760" cy="673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8832240" y="5310360"/>
              <a:ext cx="159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195400" y="5193000"/>
              <a:ext cx="159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8195400" y="5466960"/>
              <a:ext cx="159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195400" y="4919400"/>
              <a:ext cx="0" cy="27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195400" y="5466960"/>
              <a:ext cx="0" cy="27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956000" y="4919760"/>
              <a:ext cx="238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956000" y="5740560"/>
              <a:ext cx="238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279920" y="5076000"/>
              <a:ext cx="19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4802400"/>
              <a:ext cx="1154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03120" y="5076000"/>
              <a:ext cx="15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03120" y="5076000"/>
              <a:ext cx="0" cy="1172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4480" y="5662080"/>
              <a:ext cx="1154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03120" y="5896800"/>
              <a:ext cx="875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03120" y="5896800"/>
              <a:ext cx="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200400" y="1295280"/>
            <a:ext cx="0" cy="5257800"/>
          </a:xfrm>
          <a:prstGeom prst="line">
            <a:avLst/>
          </a:prstGeom>
          <a:ln w="7632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6120" y="13716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A számítógép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800" y="3200400"/>
            <a:ext cx="1867680" cy="1262880"/>
            <a:chOff x="4114800" y="3200400"/>
            <a:chExt cx="1867680" cy="1262880"/>
          </a:xfrm>
        </p:grpSpPr>
        <p:sp>
          <p:nvSpPr>
            <p:cNvPr id="119" name=""/>
            <p:cNvSpPr/>
            <p:nvPr/>
          </p:nvSpPr>
          <p:spPr>
            <a:xfrm flipH="1">
              <a:off x="4800240" y="3962520"/>
              <a:ext cx="76212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6040" y="3809880"/>
              <a:ext cx="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27040" y="3379680"/>
              <a:ext cx="805680" cy="45972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 CE"/>
                </a:rPr>
                <a:t>AL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3480" y="4003560"/>
              <a:ext cx="603000" cy="45972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 CE"/>
                </a:rPr>
                <a:t>C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3720" y="3532320"/>
              <a:ext cx="788760" cy="45972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 CE"/>
                </a:rPr>
                <a:t>RE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3200400"/>
              <a:ext cx="1828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9720" y="3200400"/>
              <a:ext cx="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2720" y="3200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365760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733920" y="1447920"/>
            <a:ext cx="3809880" cy="3276360"/>
            <a:chOff x="3733920" y="1447920"/>
            <a:chExt cx="3809880" cy="3276360"/>
          </a:xfrm>
        </p:grpSpPr>
        <p:sp>
          <p:nvSpPr>
            <p:cNvPr id="129" name=""/>
            <p:cNvSpPr/>
            <p:nvPr/>
          </p:nvSpPr>
          <p:spPr>
            <a:xfrm>
              <a:off x="6172200" y="1447920"/>
              <a:ext cx="1371600" cy="99036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191120" y="1600200"/>
              <a:ext cx="213336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943240" y="2133720"/>
              <a:ext cx="152388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2743200"/>
              <a:ext cx="2438280" cy="198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038480" y="3886200"/>
            <a:ext cx="5105520" cy="2819520"/>
            <a:chOff x="4038480" y="3886200"/>
            <a:chExt cx="5105520" cy="2819520"/>
          </a:xfrm>
        </p:grpSpPr>
        <p:sp>
          <p:nvSpPr>
            <p:cNvPr id="134" name=""/>
            <p:cNvSpPr/>
            <p:nvPr/>
          </p:nvSpPr>
          <p:spPr>
            <a:xfrm>
              <a:off x="4038480" y="3886200"/>
              <a:ext cx="990720" cy="7621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1320" y="4343400"/>
              <a:ext cx="3352680" cy="2362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3886200"/>
              <a:ext cx="29718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4572000"/>
              <a:ext cx="205740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162920" y="5334120"/>
            <a:ext cx="990360" cy="838080"/>
          </a:xfrm>
          <a:prstGeom prst="ellipse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0920" y="35812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logikai áramkörö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15238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részegység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C92-C8D3-40A7-8D41-3E3C19E750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56-196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8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ranzisz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elfede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élvezetős áramkörök (tranzisztor, dió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e4..10e5 művelet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bízhatóbb, kisebb méret, teljesítmény felvétel csök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jesítmény/ár arány megn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418-04F1-4125-AB8A-B8CE5AA5A1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. Generá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Önálló (a központi feldolgozó egységtől függetlenül) párhuzamosan működő csatornák (I/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Memória centr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fériák, háttértár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ritgyűrűs memória (megbízhatóbb, olcsóbb, gyorsabb, nagyobb kapacitá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CB3-CFE8-42D3-ACB4-3E7AE5B9CF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. Generá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7800" y="1386000"/>
            <a:ext cx="192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760" y="4464000"/>
            <a:ext cx="196848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ato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1960" y="1644480"/>
            <a:ext cx="295920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zérlő 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64400" y="2863800"/>
            <a:ext cx="420372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 logikai egy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4240" y="4251600"/>
            <a:ext cx="3035520" cy="9457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ív tá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emór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4560" y="5873760"/>
            <a:ext cx="2197080" cy="596880"/>
          </a:xfrm>
          <a:prstGeom prst="rect">
            <a:avLst/>
          </a:prstGeom>
          <a:solidFill>
            <a:srgbClr val="0099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féri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01640" y="5029200"/>
            <a:ext cx="303480" cy="838080"/>
            <a:chOff x="1601640" y="5029200"/>
            <a:chExt cx="303480" cy="838080"/>
          </a:xfrm>
        </p:grpSpPr>
        <p:sp>
          <p:nvSpPr>
            <p:cNvPr id="301" name=""/>
            <p:cNvSpPr/>
            <p:nvPr/>
          </p:nvSpPr>
          <p:spPr>
            <a:xfrm>
              <a:off x="1601640" y="528624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1640" y="502920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268880" y="2133720"/>
            <a:ext cx="304560" cy="685800"/>
          </a:xfrm>
          <a:prstGeom prst="upArrow">
            <a:avLst>
              <a:gd name="adj1" fmla="val 50000"/>
              <a:gd name="adj2" fmla="val 112578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30760" y="5873760"/>
            <a:ext cx="3263760" cy="596880"/>
          </a:xfrm>
          <a:prstGeom prst="rect">
            <a:avLst/>
          </a:prstGeom>
          <a:solidFill>
            <a:srgbClr val="0099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ttértár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15320" y="4464000"/>
            <a:ext cx="196848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ato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92160" y="5029200"/>
            <a:ext cx="303120" cy="838080"/>
            <a:chOff x="992160" y="5029200"/>
            <a:chExt cx="303120" cy="838080"/>
          </a:xfrm>
        </p:grpSpPr>
        <p:sp>
          <p:nvSpPr>
            <p:cNvPr id="307" name=""/>
            <p:cNvSpPr/>
            <p:nvPr/>
          </p:nvSpPr>
          <p:spPr>
            <a:xfrm>
              <a:off x="992160" y="52862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92160" y="50292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268880" y="3429000"/>
            <a:ext cx="303120" cy="838080"/>
            <a:chOff x="4268880" y="3429000"/>
            <a:chExt cx="303120" cy="838080"/>
          </a:xfrm>
        </p:grpSpPr>
        <p:sp>
          <p:nvSpPr>
            <p:cNvPr id="310" name=""/>
            <p:cNvSpPr/>
            <p:nvPr/>
          </p:nvSpPr>
          <p:spPr>
            <a:xfrm>
              <a:off x="4268880" y="36860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68880" y="34290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171880" y="4457880"/>
            <a:ext cx="838080" cy="303120"/>
            <a:chOff x="2171880" y="4457880"/>
            <a:chExt cx="838080" cy="303120"/>
          </a:xfrm>
        </p:grpSpPr>
        <p:sp>
          <p:nvSpPr>
            <p:cNvPr id="313" name=""/>
            <p:cNvSpPr/>
            <p:nvPr/>
          </p:nvSpPr>
          <p:spPr>
            <a:xfrm>
              <a:off x="2428920" y="4457880"/>
              <a:ext cx="581040" cy="303120"/>
            </a:xfrm>
            <a:prstGeom prst="right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1880" y="4457880"/>
              <a:ext cx="580680" cy="303120"/>
            </a:xfrm>
            <a:prstGeom prst="leftArrow">
              <a:avLst>
                <a:gd name="adj1" fmla="val 50000"/>
                <a:gd name="adj2" fmla="val 95775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134040" y="4381560"/>
            <a:ext cx="838440" cy="303120"/>
            <a:chOff x="6134040" y="4381560"/>
            <a:chExt cx="838440" cy="303120"/>
          </a:xfrm>
        </p:grpSpPr>
        <p:sp>
          <p:nvSpPr>
            <p:cNvPr id="316" name=""/>
            <p:cNvSpPr/>
            <p:nvPr/>
          </p:nvSpPr>
          <p:spPr>
            <a:xfrm>
              <a:off x="6391440" y="4381560"/>
              <a:ext cx="581040" cy="303120"/>
            </a:xfrm>
            <a:prstGeom prst="right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34040" y="4381560"/>
              <a:ext cx="581040" cy="303120"/>
            </a:xfrm>
            <a:prstGeom prst="left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697880" y="5029200"/>
            <a:ext cx="303120" cy="838080"/>
            <a:chOff x="7697880" y="5029200"/>
            <a:chExt cx="303120" cy="838080"/>
          </a:xfrm>
        </p:grpSpPr>
        <p:sp>
          <p:nvSpPr>
            <p:cNvPr id="319" name=""/>
            <p:cNvSpPr/>
            <p:nvPr/>
          </p:nvSpPr>
          <p:spPr>
            <a:xfrm>
              <a:off x="7697880" y="52862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97880" y="50292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088040" y="5029200"/>
            <a:ext cx="303480" cy="838080"/>
            <a:chOff x="7088040" y="5029200"/>
            <a:chExt cx="303480" cy="838080"/>
          </a:xfrm>
        </p:grpSpPr>
        <p:sp>
          <p:nvSpPr>
            <p:cNvPr id="322" name=""/>
            <p:cNvSpPr/>
            <p:nvPr/>
          </p:nvSpPr>
          <p:spPr>
            <a:xfrm>
              <a:off x="7088040" y="528624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8040" y="502920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133720" y="4876920"/>
            <a:ext cx="914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095880" y="4876920"/>
            <a:ext cx="914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2209680"/>
            <a:ext cx="0" cy="6098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15000" y="22096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1905120"/>
            <a:ext cx="2133720" cy="25146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8640" y="1906560"/>
            <a:ext cx="48769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76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762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440" y="1460520"/>
            <a:ext cx="5537160" cy="233676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46200" y="2330280"/>
            <a:ext cx="134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zér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629400" y="2666880"/>
            <a:ext cx="38088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25760" y="5302080"/>
            <a:ext cx="166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átvi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5486400"/>
            <a:ext cx="76212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87C-62A4-4257-902A-643ACB63B4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. Generáció összefogla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épcsalád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ssembly nyelv (rövidített kódok), COBOL, FORTRAN, ALGOL, software ipa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tegelt (batch) feldolgozás, gazdasági adatfeldolgozás, ipari folyamatirány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A40-71D7-469E-BB36-4225672AFD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64-197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58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Jack Kilb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Texas Instruments)</a:t>
            </a:r>
            <a:br>
              <a:rPr sz="3200"/>
            </a:b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Integrált áramkör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IC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3 elektronikus elem 1 szilícium lapk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6DE-FDE8-4709-840B-68EA9F45D1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Generá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grált áramkörök (10..1000 egy tokb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0e5..10e6 művelet 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Modularitá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bővíthető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árhuzamos működés, több processz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/O processzor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lcsó nagy tár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81A-139E-41E9-9939-D5EA30DC80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Generá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50840" y="2529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36840" y="3824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82920" y="5119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2240" y="4890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11720" y="2520720"/>
            <a:ext cx="178668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r mod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2280" y="3892680"/>
            <a:ext cx="8064360" cy="44424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viteli sínrendszer (bus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2040" y="5166000"/>
            <a:ext cx="3054600" cy="9457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, logik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50640" y="5203800"/>
            <a:ext cx="1928520" cy="9457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49760" y="2520720"/>
            <a:ext cx="178668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r mod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07560" y="2520720"/>
            <a:ext cx="1786680" cy="5191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r mod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88920" y="5203800"/>
            <a:ext cx="1928520" cy="94572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01640" y="4343400"/>
            <a:ext cx="303480" cy="838080"/>
            <a:chOff x="1601640" y="4343400"/>
            <a:chExt cx="303480" cy="838080"/>
          </a:xfrm>
        </p:grpSpPr>
        <p:sp>
          <p:nvSpPr>
            <p:cNvPr id="354" name=""/>
            <p:cNvSpPr/>
            <p:nvPr/>
          </p:nvSpPr>
          <p:spPr>
            <a:xfrm>
              <a:off x="1601640" y="460044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01640" y="434340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525760" y="4540320"/>
            <a:ext cx="166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átvi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724280"/>
            <a:ext cx="76212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164360" y="4343400"/>
            <a:ext cx="303120" cy="838080"/>
            <a:chOff x="7164360" y="4343400"/>
            <a:chExt cx="303120" cy="838080"/>
          </a:xfrm>
        </p:grpSpPr>
        <p:sp>
          <p:nvSpPr>
            <p:cNvPr id="359" name=""/>
            <p:cNvSpPr/>
            <p:nvPr/>
          </p:nvSpPr>
          <p:spPr>
            <a:xfrm>
              <a:off x="7164360" y="46004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64360" y="43434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26080" y="4343400"/>
            <a:ext cx="303120" cy="838080"/>
            <a:chOff x="4726080" y="4343400"/>
            <a:chExt cx="303120" cy="838080"/>
          </a:xfrm>
        </p:grpSpPr>
        <p:sp>
          <p:nvSpPr>
            <p:cNvPr id="362" name=""/>
            <p:cNvSpPr/>
            <p:nvPr/>
          </p:nvSpPr>
          <p:spPr>
            <a:xfrm>
              <a:off x="4726080" y="46004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6080" y="43434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012080" y="3048120"/>
            <a:ext cx="303120" cy="838080"/>
            <a:chOff x="7012080" y="3048120"/>
            <a:chExt cx="303120" cy="838080"/>
          </a:xfrm>
        </p:grpSpPr>
        <p:sp>
          <p:nvSpPr>
            <p:cNvPr id="365" name=""/>
            <p:cNvSpPr/>
            <p:nvPr/>
          </p:nvSpPr>
          <p:spPr>
            <a:xfrm>
              <a:off x="7012080" y="330516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12080" y="304812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192560" y="3048120"/>
            <a:ext cx="303120" cy="838080"/>
            <a:chOff x="4192560" y="3048120"/>
            <a:chExt cx="303120" cy="838080"/>
          </a:xfrm>
        </p:grpSpPr>
        <p:sp>
          <p:nvSpPr>
            <p:cNvPr id="368" name=""/>
            <p:cNvSpPr/>
            <p:nvPr/>
          </p:nvSpPr>
          <p:spPr>
            <a:xfrm>
              <a:off x="4192560" y="330516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92560" y="304812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830240" y="3048120"/>
            <a:ext cx="303480" cy="838080"/>
            <a:chOff x="1830240" y="3048120"/>
            <a:chExt cx="303480" cy="838080"/>
          </a:xfrm>
        </p:grpSpPr>
        <p:sp>
          <p:nvSpPr>
            <p:cNvPr id="371" name=""/>
            <p:cNvSpPr/>
            <p:nvPr/>
          </p:nvSpPr>
          <p:spPr>
            <a:xfrm>
              <a:off x="1830240" y="330516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30240" y="304812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3E3-2D30-4DF3-8996-FE291D061B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 Generá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perációs rendszerek, szoftve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ultiprogramozott üzemmó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dőosztásos rendszerek (Time sharing), távoli terminál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BM 360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370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PDP 11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másola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198-DA96-4A4E-9E5F-AA0010AED5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71-napjainkig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yre több elem egy tokban (chipben) LSI, VLSI, ULSI (1e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sökkenő méret, csökkenő á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övekvő teljesítmény, megbízható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71 Intel 4004 : központi feldolgozó egység, memória, I/O vezérlés 1 chip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y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mikroprocesszor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- több feladatra programozv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Mikroszámítógép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C2D-CB32-4C05-8905-069FCB7969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71-napjainkig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76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ra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198 MFL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ini-számítógépek (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ommodore, Apple, Atari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81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IBM PC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„személyi számítógép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81: 2Millió, 1982: 5.5Millió, 1990: 65mill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esktop, laptop, palm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984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acintosh Apple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grafikus operációs rends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Hálózatok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, LAN,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EAB-EAF5-41F0-B3D2-A0EBDD82C8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előadás tartal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ért (lehet) szükséges a számítógépek felépítésének az ismerete 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csa meghökkentő kérdések és válaszok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örténelmi áttekintés, számítógép generáció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kai fogalmak és értelme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CDC-F10C-40B0-9B36-2A83BE2206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. Generáció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elen és Jövő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L9000 (2001 Űrodüsszea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esterséges intelligenci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árhuzamos (nem Neumann elvű) feldolg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roblémák ? (Hő, vékony réteg,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Új technológia, új elvek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000" spc="-1" strike="noStrike">
                <a:solidFill>
                  <a:srgbClr val="ff5050"/>
                </a:solidFill>
                <a:latin typeface="Times New Roman"/>
              </a:rPr>
              <a:t>Kvantum számítástechnika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32C-AE32-40BE-983C-43829B8F42B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jlő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0480" y="12193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echnológia : eletroncső, tranzisztor,  integrált áramkör, LSI, VL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peratív tár : művonal, ferritgyűrű, félvez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truktúra : processzorcentrikus, tárcentrikus, modulá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éret csökken („teremnyi” -&gt; „körömnyi”), darabszám nő (1-2db. -&gt; 10e6 db/típu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lkalmazás : tudományos-műszaki számítások, gazdasági adatfeldolgozás, ipari folyamatirányítás, általá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rogramozás : gépi, assembler nyelv, magas szintű nyelvek, operációs rendszer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rarány : hardver / szoftver csök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AD4-AA23-48CF-BBDA-10942BC7D65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ért (lehet) szükséges a számítógépek felépítésének az ismerete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csa meghökkentő kérdések és válaszok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404-F61C-4696-A8D6-1A1EBB9BB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ódszeres programozás..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9680" y="3359160"/>
            <a:ext cx="3568680" cy="311148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5280" y="355140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: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98960" y="438948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&lt;&gt;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7760" y="5111640"/>
            <a:ext cx="2730600" cy="135900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94040" y="5532480"/>
            <a:ext cx="237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:=s+1/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4267080"/>
            <a:ext cx="358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920" y="1538280"/>
            <a:ext cx="7692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elada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gy nulla kezdőértékű számho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/16-ot hozzáadni amíg az értéke egy nem les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828-2119-44CF-B64B-53DC0D91A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ghökkentő ciklu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Program ciklu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Var s:rea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s:=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While s&lt;&gt;1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s:=s+1/16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End.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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679-D980-47CF-AE3D-566E8E25D3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ghökkentő ciklus 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Program ciklu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Var s:rea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s:=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While s&lt;&gt;1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s:=s+1/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End. 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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BCE-E99C-4F88-8954-B0E86924C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 Ez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1011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8D2-F68A-4313-8492-A9F79D932C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06:12:32Z</dcterms:created>
  <dc:creator/>
  <dc:description/>
  <dc:language>en-US</dc:language>
  <cp:lastModifiedBy>Nagymáté Péter</cp:lastModifiedBy>
  <cp:lastPrinted>1999-02-02T12:06:11Z</cp:lastPrinted>
  <dcterms:modified xsi:type="dcterms:W3CDTF">2003-09-16T09:43:25Z</dcterms:modified>
  <cp:revision>82</cp:revision>
  <dc:subject/>
  <dc:title>Hardver - szoftver réteg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people.inf.elte.hu/istenes</vt:lpwstr>
  </property>
  <property fmtid="{D5CDD505-2E9C-101B-9397-08002B2CF9AE}" pid="9" name="LinkColor">
    <vt:r8>16711782</vt:r8>
  </property>
  <property fmtid="{D5CDD505-2E9C-101B-9397-08002B2CF9AE}" pid="10" name="MailAddress">
    <vt:lpwstr>istenes@inf.elt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kumentumok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